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282-AE28-474D-BCEC-C22729DE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408F-92A2-48D9-8E86-1641DB77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76FEE-046E-4C84-9F3E-7E2DD91A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B9571-AD72-4CE5-8B3B-5C32BA9A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9445A-647C-40EC-8B21-D83A3266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49213-F6B2-4DF1-9EAC-1B5E595D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C0E62-1109-4C80-82B1-62CB1E2E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0CC7E-4F6D-4368-8742-FAF6D733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60F0F-1266-4E88-A59B-254AB96F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E3B12-BD8D-43DC-8C28-007B2E9D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D9656-D0AA-4214-A21B-D11EC96F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E7222-A528-4C6C-B5DF-D0FDAAFC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AAD-1B9E-47E5-903D-E39DDD02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14330-086A-4C82-A384-F5A0DDA8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AACC1-D332-42C3-99B5-531BB7DE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6CFD4-E977-4FD8-A5EF-ED615DF3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2FEA4-1E2A-4571-AEAD-8BECEAD5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4EFAC-579A-47B0-9D81-B6996C09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B586E-C291-426B-9217-CAE93517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0FC4E-6BD4-40C8-AD27-AC91EC3B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6FCB0-09A0-4D50-83CD-DF2C01F5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3629D-7CFA-4B3E-8938-C6B53CAD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512AA-FDFB-4B8C-B7F3-FAAAFA44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4A8-E70C-450A-A4BC-831184FB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DD65A-8C53-426C-B972-2785E629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DEC38-258A-42CE-A582-F89FDBF2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F38A6-65EF-4455-A6CC-9C4D443E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6AB0C-FE2D-47B4-A933-303C6FD0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D43C0-6112-4B0E-94DD-832ABB18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1D406-B79B-43AF-9989-114D8A47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8DC98-6467-415C-AB3B-EF5D132E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FB137-9678-4389-832A-1BED8FD8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44DBC-420B-41CB-92BA-F5E11C73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A995A-2BF2-4C7A-B33A-A6254555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2E3A-FAAA-44E8-9FAF-F002F0E8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1F0B0-1E14-44FD-A5FA-8A0AF3DD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FE653-8B96-4003-9FB9-6714EA17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BBC55-2347-4409-AFD8-AFEAE4AB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6FC5B-8180-4AC9-B3BD-C1856661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D4D18-4952-46B6-A099-C1E33F8D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E18C2-CA9F-4292-8B25-7ECB917C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1A424-C07B-40DF-B426-E064EF74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FD60D-7722-4B7D-9AD7-8C0B946A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B35C5-5B8E-47FF-B017-6FBD667E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3211B-F2AE-43CB-B428-6ED7C885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1974-C9B6-4950-AFE5-D3A4F67A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AFDA9-C8FC-46F7-B450-1C2D2E75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B01C6-A35F-4AC2-8301-58064398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A5B78-3A55-485B-B01C-0C75009D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4C0F9-D9D4-4EC7-B35E-7859F8FF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5D7D8-9BF6-4A8F-8C49-9B2F00DB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EFB4B-8823-4C08-A128-A2F58FC5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D1E559-2D82-4C72-AE73-7098B742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45A26-65B6-42D7-A1E0-E5EF63B3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F67E4-0A30-4468-A9E7-2B740F7F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048336-1BE9-4FEF-B2F7-5DB8BF85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50AA-8DEE-4235-98B5-693D047E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A2AAC-8BB6-4200-AA27-43FB5E5C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BFC96-4D44-48F3-A885-BADA2F09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59579-1180-4D26-9E45-9F71B603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67E1A9-C3B9-49E9-A29B-A75681B8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C472B-1BDE-4CD7-A9B6-31D019D5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66A0D8-9E32-4A14-8D06-DA7FFD5E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7B0C5-92E0-4162-953B-0D7B1987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40406D-48BE-4661-B2A5-9424E325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D70DD1-4C8F-4555-8814-B6E2E479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6B5532-696A-4784-8F09-DD201E17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3071-DE48-4615-A160-C19065F9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01BAA-227F-4DE8-B253-8AA2EECE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D679FD-78CF-4477-AC7E-2DDD72F0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A443A-78C1-4B02-B144-AEF3D9AE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5BA13D-AB8C-4374-BDFF-9AA8CE79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E4D928-A534-41DF-84D6-7ED6A5E4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B1E4E-3C71-4836-93D5-7BADC710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205C9E-3D07-48F5-8AC7-6A0C9377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F37EB2-5813-4F38-AAC6-CF152CCF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D25995-E090-4285-A6A5-EA9F0E94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24E6C-CBAB-46ED-9AB2-0BDE31A4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D235-3AF5-4DE4-8B38-1237C90B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08E10B-7CD4-41B5-B78A-0EA3E61D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AC8E1D-5FB6-41CC-AE08-F90E1E6F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70EEF4-DACD-4155-AF91-440CD65A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1990F4-D009-45D5-8AC1-26FCC45A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C6E3C0-1BCA-4EE8-9BAC-5AA6394D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7FB737-2891-4E9C-A39B-E740D2F3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C33BA0-B0BD-48DC-9A24-19679780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CC451E-484F-490C-A638-86ED2BCC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9C471-4F23-4B8A-9D6B-AAA6256A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908082-D893-477B-8B9C-1DE6A6D6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5F4E-690B-45B6-B199-5B697325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525420-6D45-4526-9452-7EC4C665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B8822F-32CB-4A49-9C58-CA10C3A0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E265DC-6ED4-42B4-8A2A-AB2E11B5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F6DE43-A1A8-41A3-8422-4E5C088C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65B7D7-3205-4C15-ADD0-66DFCE5A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B5B097-43AC-4911-925F-B37B70E7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A153F2-313C-4C2B-9CED-A70761B6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60BF23-5900-46ED-A5FB-69274C75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52B2D6-EC59-475D-AB4D-6E946A57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0529B9-A4FE-45DF-AC99-D6059503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21DB-2F80-4815-86C1-B2C28F8A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7E9FD1-F4D1-4225-8894-9F63CA3A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7704D2-A081-4C21-AFF9-D57B2338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3BEAF4-4C89-4D08-84B0-2CE60064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2BE253-547A-4785-95CF-D8F5CBF7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0AA725-59AE-4B44-B06B-9FC07DEF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4EE314-1AE4-4527-A15A-C1DE2F55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49BC2B-0B37-4038-A714-23838847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BD8434-6C24-4B29-84B0-EA1FAEFB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0141AF-E4CE-4D1F-810A-B4A845FF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D6158A-F66E-43F9-8BD2-E30CD2D2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6A0-ABFE-4228-90F3-0CB93E4E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E02D-7F26-4004-B7CC-C9EFCF1A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E3FFC1-EDFC-4E7C-B98E-F69ED500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23B41C-7C21-4DB0-A43D-4B0F3410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0EA63D-B60A-4C26-84C8-81224493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E5F552-8BC4-49D6-9718-1983DA15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807C8F-A660-4170-A38D-874852FB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5EB1AF-F564-4FA7-8484-B3EEF583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41A427-4D07-4A15-9EE7-1EAC8873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974EA8-B87A-48DA-A143-FB5564D1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BCB94E-8D6E-4392-9A69-4807921E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24492C-4431-4965-A750-60B98C63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F9FA-B24E-42BD-AACB-641A1BC3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E1B8ED-854E-411C-9782-A21F78AD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11A469-1B62-4B7A-BB1F-9064BFB6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789080-0314-4CE5-BBAC-8A1BAF4B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D5A400-5C45-4B46-B675-DF43BD68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5EF15F-BB2C-4E7E-9968-118BFB42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4E66D2-501E-47E1-B229-86C3E80E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FAC680-ACE5-4FAB-9893-136A1C91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4F7FB9-8C7D-4663-97BB-AD7FE52B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83C11D-5891-454B-9DD3-D6F921DA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80FAB6-3D98-4E9C-B50B-0C0D7E1C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E648-DAA1-497B-827E-4882E7C5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21FE61-26FD-4C0F-90F7-811F6E5E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216B22-C510-40AB-BC76-8553CF08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89379F-DB94-4F08-8D81-4C06F88C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656FF6-7A3C-42A7-8F31-AFCE1C71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65853E-8DE3-4EF2-89B6-8B69F5F5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E00BA9-B905-4354-96E9-29FE99F7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D06594-033A-40E3-96A6-47B66911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4C4171-2D16-4354-A353-DECAE013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3C155D-39AE-4033-AADD-87A8AA27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74C242-9DD1-4C10-9BD4-7A54522B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A2BA-4ACC-4C82-802B-15577826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FFEE6B-C70E-4048-BC64-9978F4DE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B783FA-A6AC-48EE-9EE3-7BFA7DC5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1732E5-40E0-40A0-82C3-87A50090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B3B844-6429-438F-8988-BC81F178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925C36-1763-4ED9-9F4D-29F70163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0FAD89-4440-4867-825C-62B4A0FA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438F0F-6AF7-43FF-B9C0-1FE23E9C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F03B55-9951-4873-A15E-775C736E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9AEEA7-9F79-4D07-8A98-E0E989BB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E7F1C4-DA18-418B-B881-E7CAA082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4E9C-38CE-4135-9258-0F6726AD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6C0B4A-078E-45FD-B029-EEB11EC4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B3FC19-0E40-4178-8B7D-16E39E7E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75C8E1-D9A1-4E2C-A95D-68620021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AC64B1-BD4B-4696-9910-ABB94AFC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A4AEA5-1DF9-4465-BBD6-413498E9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414F20-E216-4383-A85B-4922B68D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D90DA6-4D16-403E-9609-76E7E30C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3EF4DA-9497-4284-B84F-6B2AFD28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D7E630-4978-4E6A-B255-107E1502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08DF55-1D90-4481-BC23-5C64827F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46988-06BF-41C8-8EDE-50F7B08B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E52935-0642-4BDE-88B7-3F6170E2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3EA3CC-028A-4180-AD91-2B194EF1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468C54-8D5F-4A7E-9D3B-289C5617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E2CA3-7E34-4F9E-BE68-E318A903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65CEE-CC09-4044-B3AE-BF933472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F11D2-B918-4AE8-AFB0-1DC12BD3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62E49-76C9-4A0E-B2E9-052B3280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E7A-5654-41FF-BF73-36B74A22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CEBCE-DD44-4BAA-8F5F-FB9DC8F5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59CE7-526D-4286-9235-0DA6871E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6957E-E6CE-41E6-AC00-8566063D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4355C-0AB0-4211-A831-DD2E938F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43EEC-A306-4A40-9D86-8F1A802F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54037-7312-4FFA-BF28-C93200B8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64236-8031-4C1A-9BC8-D28190F9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FA2AF-FC3A-4683-86F5-860F4565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D704F-88AC-4FB0-B88A-26E2E186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F3D00-6922-41E5-89FA-169F89A6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4691-56B5-490E-A36E-7EF11CC7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D7BD6-B115-4242-815A-E0BD9921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5F105-9BE4-4E21-BDC5-5CCF6ED8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E5CCB-F7A1-4207-BE3E-B0BB14E2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B99D1-74B4-4096-AE62-4F77C0D6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C9102-D4AC-462F-B3A9-68394356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3C23A-E05E-40DA-A0C6-CE63D4D2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843BD-0F91-43B4-B7E6-FD3F21BD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93C7F-177F-4684-A151-76C2DF50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9C8A3-7FB2-4B99-BE33-ED29B9D4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8B915-92B0-4E07-B985-255428E8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92CD-A4F3-44CD-B782-A80C8428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6CCE3-A785-4BB8-97BB-C187F69D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9F95B-D229-4B07-AF23-18561797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2046A-89E5-48BF-A01E-6518402F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303ED-C328-4EC6-A1F5-80777F19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587F9-E38C-4FFF-8058-7D034068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AFB12-9CEA-4EF4-808B-EBED80F2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5B2A6-8512-475B-88F2-11D567A7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3B683-E386-4368-8AB1-6E525BBB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112BA-4306-4CC4-9F68-B11D0641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95A6B-554E-4382-B43A-8509FB21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38D-3FDD-4BCB-BC65-06952C74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4B84C-C50A-42D8-8BBD-92F32FAE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C6127-E1A7-4F9F-8AE5-20E2ABEE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D8D52-DF28-4B46-BF86-983B3A59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7EE80-FD17-4CFC-AB18-125C19C9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CFF39-F8B3-4A58-88DB-B0A139F4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6D1A9-560D-4D14-AAE5-E438AB05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2E975-5548-4144-BD58-51F3345D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E9B57-A83E-4B8A-9A64-019ED195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1BBEA-2D23-4740-B2CF-384E1C0D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63E51-DB5B-4087-9A71-15DFB2DD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7F98-12D6-4375-8A07-D3A1F089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2FF63-B5C7-4B5A-A31A-F26B7735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892EB-ABB9-48CE-BA79-E449A48E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406DF-20BF-4A90-8C06-27106CD2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FEF92-BE42-434A-A56A-C97A908A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5D47E-40D9-49D8-9DD9-159B53E3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9F3A1-8A4A-4A85-ACF7-24F3D76C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7F4DF-B8DC-47D5-85A8-32EE62DE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5E83D-991F-4457-950F-E7CF5A01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CB071-481B-4858-B632-2F0F2C93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5E7A4-6561-4CD9-86B9-E8A73896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B4D-C7AB-49B4-B7FE-E28D6991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0ACB2-83AC-49E4-B442-65D0299E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67E3D-711F-4E27-A0BE-732AD0CE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81C0E-9526-4E52-9C67-204B4D25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F3B65-3846-431A-99D3-684E6F27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EFDF6-22CE-4F24-A52D-A36CAFD58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3DF7C-3E20-4FD5-A3BD-422F17CA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8200F-7B96-446A-B4AE-AC558974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6FCF3-6C04-40BD-9EEE-61F5608D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39AED-CA4A-4E67-B412-49ED510B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3D0C4-641B-468C-B2B7-4B460141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B81F-576B-4B19-BDA4-870565BA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510E7-0187-4612-93A5-8F7A4CA1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2D108-BDAA-4DA4-A89C-FA003810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F238F-9F5E-4161-BC29-B8E694D5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19ABB-C44C-4763-A3AC-58816631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15E01-E52C-4D8E-A48E-FAC65D72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6E4D4-9FB5-49B7-B901-ECCE3B08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877DF-2D6C-48FC-BDC3-498C2DE6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0F4F0-28CE-4B3D-B6DB-4D82AC81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B4B59-E20D-4868-8870-B6B8B65D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B73E2-6D27-44AD-9949-404B0415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B0ED-7D73-4BC9-ABAC-721DC6010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5B48-40E8-446E-9167-1937F9F54C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1A05-3B80-4FCA-8FD5-718A83AD22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E6D8-2F74-4F01-9A97-C1DB07CBBA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454F-87DE-4424-ACE6-CCBDE02D56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6008-D661-40F0-8CAA-506D3D7E91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CEDB-8464-4165-8F2E-D6C311FF35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7B79-50FC-4487-A62E-0AD95F6106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E4FA-DF78-4A4A-B5B1-A32A28909E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F011-7895-4A36-8A4A-6D6159EB15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BDBA-6AD5-498A-B08E-F23AD63D6B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8FB0-7C9D-4B79-B9E1-8C20B04F21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A03D-2551-46CA-90BC-92B7484940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AB2E-63A4-497F-9153-ADD013C1AE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F7F4-2E56-4CAE-A058-8BED7A7890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F751-2F2E-4204-935C-035BEC3CB1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4A1B-3698-4ABE-B464-44D38D583C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AE9E-8DEC-4C99-85F0-4E6C6CAB1C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F61D-92C7-407A-86E7-0C3828DF68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48B6-844B-47CC-92C8-19247E2250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9CAB-EA7F-43D3-B99C-EEFAE3D270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3AB9-D363-4BBF-AA7C-A57415607F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B973-784C-4A27-B09E-797BA56EC3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870F-F8E5-411A-B2A3-9C2581139E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9BBB-E178-40B1-AE04-5001E5CD5D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9BA7-32F4-486E-A8D1-54528EF33A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E94F-F82B-4682-90F1-54DBE4AC91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2E42-8B35-443D-9F5F-0C9C31E1C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F734-51CD-4CB7-AA34-3105C02223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3023-8C10-4359-B69B-9C883ADA76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BADA-CA17-4CAB-A44C-DD0E718201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4F50-00B2-4392-B2C3-C4823F0530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06BB-268C-455A-9683-47360AD384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6AD9-6B6E-4702-8F9C-54C22DEBB2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C893-8D7F-4988-B6E0-F30F067E6F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7E75-DD84-41C2-AA2B-EC6D11CEE8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DD0E-096D-4AB8-B7ED-23F66B486B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2D65-0007-46D3-96E8-75A78B487B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7497-0516-4026-9BB6-23E4320FA1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58E7-CA5F-4278-AAEB-E60118346A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033640" y="2938320"/>
            <a:ext cx="507672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图片 2" descr=""/>
          <p:cNvPicPr/>
          <p:nvPr/>
        </p:nvPicPr>
        <p:blipFill>
          <a:blip r:embed="rId1"/>
          <a:stretch/>
        </p:blipFill>
        <p:spPr>
          <a:xfrm>
            <a:off x="114480" y="1554120"/>
            <a:ext cx="8915400" cy="37497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1979640" y="4365720"/>
            <a:ext cx="1224000" cy="40464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4099" descr=""/>
          <p:cNvPicPr/>
          <p:nvPr/>
        </p:nvPicPr>
        <p:blipFill>
          <a:blip r:embed="rId3"/>
          <a:stretch/>
        </p:blipFill>
        <p:spPr>
          <a:xfrm>
            <a:off x="900000" y="2046240"/>
            <a:ext cx="733680" cy="44460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4100" descr=""/>
          <p:cNvPicPr/>
          <p:nvPr/>
        </p:nvPicPr>
        <p:blipFill>
          <a:blip r:embed="rId4"/>
          <a:stretch/>
        </p:blipFill>
        <p:spPr>
          <a:xfrm>
            <a:off x="2268360" y="2046240"/>
            <a:ext cx="733680" cy="44460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4101" descr=""/>
          <p:cNvPicPr/>
          <p:nvPr/>
        </p:nvPicPr>
        <p:blipFill>
          <a:blip r:embed="rId5"/>
          <a:stretch/>
        </p:blipFill>
        <p:spPr>
          <a:xfrm>
            <a:off x="4299120" y="2046240"/>
            <a:ext cx="733320" cy="44460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4102" descr=""/>
          <p:cNvPicPr/>
          <p:nvPr/>
        </p:nvPicPr>
        <p:blipFill>
          <a:blip r:embed="rId6"/>
          <a:stretch/>
        </p:blipFill>
        <p:spPr>
          <a:xfrm>
            <a:off x="6962760" y="2044800"/>
            <a:ext cx="733320" cy="44424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4103" descr=""/>
          <p:cNvPicPr/>
          <p:nvPr/>
        </p:nvPicPr>
        <p:blipFill>
          <a:blip r:embed="rId7"/>
          <a:stretch/>
        </p:blipFill>
        <p:spPr>
          <a:xfrm>
            <a:off x="8272440" y="2058840"/>
            <a:ext cx="733320" cy="44460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4104" descr=""/>
          <p:cNvPicPr/>
          <p:nvPr/>
        </p:nvPicPr>
        <p:blipFill>
          <a:blip r:embed="rId8"/>
          <a:stretch/>
        </p:blipFill>
        <p:spPr>
          <a:xfrm>
            <a:off x="898560" y="2577960"/>
            <a:ext cx="733320" cy="44460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4105" descr=""/>
          <p:cNvPicPr/>
          <p:nvPr/>
        </p:nvPicPr>
        <p:blipFill>
          <a:blip r:embed="rId9"/>
          <a:stretch/>
        </p:blipFill>
        <p:spPr>
          <a:xfrm>
            <a:off x="2252520" y="2593800"/>
            <a:ext cx="733680" cy="44460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4106" descr=""/>
          <p:cNvPicPr/>
          <p:nvPr/>
        </p:nvPicPr>
        <p:blipFill>
          <a:blip r:embed="rId10"/>
          <a:stretch/>
        </p:blipFill>
        <p:spPr>
          <a:xfrm>
            <a:off x="4010040" y="2577960"/>
            <a:ext cx="733320" cy="44460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4107" descr=""/>
          <p:cNvPicPr/>
          <p:nvPr/>
        </p:nvPicPr>
        <p:blipFill>
          <a:blip r:embed="rId11"/>
          <a:stretch/>
        </p:blipFill>
        <p:spPr>
          <a:xfrm>
            <a:off x="5291280" y="2593800"/>
            <a:ext cx="733320" cy="44460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4108" descr=""/>
          <p:cNvPicPr/>
          <p:nvPr/>
        </p:nvPicPr>
        <p:blipFill>
          <a:blip r:embed="rId12"/>
          <a:stretch/>
        </p:blipFill>
        <p:spPr>
          <a:xfrm>
            <a:off x="6962760" y="2593800"/>
            <a:ext cx="733320" cy="44460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4109" descr=""/>
          <p:cNvPicPr/>
          <p:nvPr/>
        </p:nvPicPr>
        <p:blipFill>
          <a:blip r:embed="rId13"/>
          <a:stretch/>
        </p:blipFill>
        <p:spPr>
          <a:xfrm>
            <a:off x="8286840" y="2593800"/>
            <a:ext cx="733320" cy="4446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4"/>
          <a:stretch/>
        </p:blipFill>
        <p:spPr>
          <a:xfrm>
            <a:off x="6300720" y="4365720"/>
            <a:ext cx="1295640" cy="4046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15"/>
          <a:stretch/>
        </p:blipFill>
        <p:spPr>
          <a:xfrm>
            <a:off x="2498760" y="4869000"/>
            <a:ext cx="1295280" cy="34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347760" y="1123920"/>
            <a:ext cx="8447040" cy="46101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971640" y="3284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1042920" y="472428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423720" y="1986120"/>
            <a:ext cx="8294760" cy="2885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727200" y="37162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44280" y="906480"/>
            <a:ext cx="8658360" cy="121932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2" descr=""/>
          <p:cNvPicPr/>
          <p:nvPr/>
        </p:nvPicPr>
        <p:blipFill>
          <a:blip r:embed="rId2"/>
          <a:stretch/>
        </p:blipFill>
        <p:spPr>
          <a:xfrm>
            <a:off x="496800" y="2246400"/>
            <a:ext cx="8542440" cy="37130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4"/>
          <a:stretch/>
        </p:blipFill>
        <p:spPr>
          <a:xfrm>
            <a:off x="741240" y="2205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5"/>
          <a:stretch/>
        </p:blipFill>
        <p:spPr>
          <a:xfrm>
            <a:off x="684360" y="3068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6"/>
          <a:stretch/>
        </p:blipFill>
        <p:spPr>
          <a:xfrm>
            <a:off x="684360" y="38750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7"/>
          <a:stretch/>
        </p:blipFill>
        <p:spPr>
          <a:xfrm>
            <a:off x="684360" y="47242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1447920" y="542880"/>
            <a:ext cx="6248160" cy="62388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2124000" y="1413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2124000" y="2565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2124000" y="3716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5"/>
          <a:stretch/>
        </p:blipFill>
        <p:spPr>
          <a:xfrm>
            <a:off x="2124000" y="4869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6"/>
          <a:stretch/>
        </p:blipFill>
        <p:spPr>
          <a:xfrm>
            <a:off x="2124000" y="602136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2" name="图片 1" descr=""/>
          <p:cNvPicPr/>
          <p:nvPr/>
        </p:nvPicPr>
        <p:blipFill>
          <a:blip r:embed="rId1"/>
          <a:stretch/>
        </p:blipFill>
        <p:spPr>
          <a:xfrm>
            <a:off x="757080" y="2090880"/>
            <a:ext cx="7628040" cy="26762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2"/>
          <a:stretch/>
        </p:blipFill>
        <p:spPr>
          <a:xfrm>
            <a:off x="1547640" y="2492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3"/>
          <a:stretch/>
        </p:blipFill>
        <p:spPr>
          <a:xfrm>
            <a:off x="1547640" y="293832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4"/>
          <a:stretch/>
        </p:blipFill>
        <p:spPr>
          <a:xfrm>
            <a:off x="1547640" y="33717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5"/>
          <a:stretch/>
        </p:blipFill>
        <p:spPr>
          <a:xfrm>
            <a:off x="1476360" y="38322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6"/>
          <a:stretch/>
        </p:blipFill>
        <p:spPr>
          <a:xfrm>
            <a:off x="1547640" y="426420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4:48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